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d62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9D5F-64B5-4686-B9DC-5CFA10A10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0B24-BFAE-4D31-A61C-2BF851AE1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60FDD-AA95-447E-9A93-5E2763657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9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81F9-4077-460A-B913-4C69FD871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F44F-56A2-4DA5-8F43-334BFA5CC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CB81-7708-4802-A969-8DC76BAB2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3C19-A108-42F8-B898-BD19566C3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A163-3A0F-4F7E-82BE-85D1B7A81C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149A-A6D0-4299-913F-687C50798F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4B69-C82D-43C3-8DA1-59FE22DC5E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182F-CAFF-446B-8C10-7D3F7CC117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921F-FA92-4C5F-96DC-70D0EBCDAA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6971-0805-4AAA-8385-E97EA36BFF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55FD-108E-4317-98E3-4A16DCBCA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69AC-BC09-4E7B-8242-8FDE388D0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3AF5-CD92-481C-B24B-FEFB7A0E45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4E8C-AC4F-4FE1-BA2E-2C10AE16AA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7EB9-0512-4F58-B6B4-1103EE98CA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0B17-F9A0-42FC-97C1-A4ED5BD3B3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0A11-3234-480F-B3D4-9A980115D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EC0B-3F30-418A-A630-CB0F3EFCD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CA40-3D89-4B1C-96BB-3327EDD4A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5D4C-9BB6-4196-ACA3-BB8F736A5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1D21-73BE-4C23-9FDB-08B28A6C3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9D03-F305-46F7-830D-F97437E39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2FF3-FF8A-4664-949B-D43898260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3521-F2A8-4A14-88B0-44C3D6703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SzPct val="10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e51837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" name="Line 7"/>
          <p:cNvSpPr/>
          <p:nvPr/>
        </p:nvSpPr>
        <p:spPr>
          <a:xfrm>
            <a:off x="441360" y="968400"/>
            <a:ext cx="8307360" cy="0"/>
          </a:xfrm>
          <a:prstGeom prst="line">
            <a:avLst/>
          </a:prstGeom>
          <a:ln w="25560">
            <a:solidFill>
              <a:srgbClr val="002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287280" y="6154560"/>
            <a:ext cx="8553600" cy="0"/>
          </a:xfrm>
          <a:prstGeom prst="line">
            <a:avLst/>
          </a:prstGeom>
          <a:ln w="9360">
            <a:solidFill>
              <a:srgbClr val="003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E0DA-6414-49ED-9E9C-16991E1CCDCF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127160" y="62420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0680" y="6188040"/>
            <a:ext cx="779400" cy="614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3880" y="622764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440" y="1528920"/>
            <a:ext cx="234468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ldNum" idx="2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C19-A359-414B-A591-67D2E1966078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52480" y="23976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138480" y="318960"/>
            <a:ext cx="25131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6010200" y="271440"/>
            <a:ext cx="2530440" cy="1785960"/>
            <a:chOff x="6010200" y="271440"/>
            <a:chExt cx="2530440" cy="1785960"/>
          </a:xfrm>
        </p:grpSpPr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6010200" y="1596960"/>
              <a:ext cx="253044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6550200" y="271440"/>
              <a:ext cx="1406520" cy="14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511200" y="2219400"/>
            <a:ext cx="78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3845"/>
                </a:solidFill>
                <a:latin typeface="Century Gothic"/>
              </a:rPr>
              <a:t>Notre Dame extended Research Communit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5440" y="2916000"/>
            <a:ext cx="8531280" cy="12600"/>
          </a:xfrm>
          <a:prstGeom prst="line">
            <a:avLst/>
          </a:prstGeom>
          <a:ln w="25560">
            <a:solidFill>
              <a:srgbClr val="013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480" y="3216240"/>
            <a:ext cx="840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d62"/>
                </a:solidFill>
                <a:latin typeface="Century Gothic"/>
              </a:rPr>
              <a:t>From the Human Eye Down to Microscopes at the Nano-Scale</a:t>
            </a:r>
            <a:endParaRPr b="0" lang="en-US" sz="36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00480" y="4529160"/>
            <a:ext cx="546264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Michael Crocker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Valerie Gos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Pat Mooney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Rebecca Quardoku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3246-437F-4D8B-A115-A4A156398D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-360"/>
            <a:ext cx="8310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Outlin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160" y="1112400"/>
            <a:ext cx="8459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Discussion of Optic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History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Ranges of Visual Resolution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Atomic Force Microscopy (AF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Operation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Example Images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Electron Microscopy (SE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-1177920" y="29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2861-589E-4D0A-9BA3-53FE1E3A4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4:16:45Z</dcterms:created>
  <dc:creator>ak127</dc:creator>
  <dc:description/>
  <dc:language>en-US</dc:language>
  <cp:lastModifiedBy> </cp:lastModifiedBy>
  <dcterms:modified xsi:type="dcterms:W3CDTF">2009-08-28T03:40:28Z</dcterms:modified>
  <cp:revision>585</cp:revision>
  <dc:subject/>
  <dc:title>Slide 1</dc:title>
</cp:coreProperties>
</file>